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49E-3917-4264-8F0D-489FE1B6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8200-0E48-452F-9339-AE220D88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E52-507C-4A19-B397-2469A7DF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3CE-CB62-4332-AD9E-A2AF8351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AA18-4185-40DB-9FC7-BBBA22B5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28C9-57B7-4529-BE40-17C5B02F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C8B0-17DB-4408-9EEA-D121ADF1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D5B2-550B-442F-81E9-6F970C98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0393-C021-4B8C-82A1-B27A43AC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FA11-24D8-40D3-A9D6-7700B925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E97F-93EE-4767-A24F-C17D26AA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3C9-46B0-4E2C-BF99-5A908C29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D9E1-11E3-4FC1-B72F-CB916B83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CBFC-89E0-4F42-9420-BFA92BF0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2FB9-2BC4-45D6-93BA-5243CF76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4EB3-5B24-438C-A750-2BA07892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B403-2164-4C97-9178-2B053BAD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C07-9838-4E5D-9C10-69C3888C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F844-6FB7-48DC-AFB4-1CF38B2B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E305-9C5F-427D-9E4B-0F45FB2E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C01-8EFC-427B-852D-C9AEB76E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FAF-DF1A-47CC-8B17-F7C89347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494-D0F1-4040-AA55-22906405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CFF4-40DB-4834-B9B5-4DE4C32B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52C8-4D96-4B58-B3BA-A1322DFB4E1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A081-6301-4E4D-BA75-F9D837B8FA0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3366"/>
                </a:solidFill>
                <a:latin typeface="Times New Roman"/>
              </a:rPr>
              <a:t>Quality of Service voor </a:t>
            </a:r>
            <a:br>
              <a:rPr sz="4000"/>
            </a:br>
            <a:r>
              <a:rPr b="0" lang="nl-BE" sz="4000" spc="-1" strike="noStrike">
                <a:solidFill>
                  <a:srgbClr val="003366"/>
                </a:solidFill>
                <a:latin typeface="Times New Roman"/>
              </a:rPr>
              <a:t>Mobile Multi Agent Systemen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Cedric Vanryk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PROG, DINF, VUB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Promotor: Prof. Dr. Theo D’Hond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Begeleider: Johan Fabr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E54C-67C5-4C28-B626-833EAFB2ED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3366"/>
                </a:solidFill>
                <a:latin typeface="Times New Roman"/>
              </a:rPr>
              <a:t>Resultaten van de Experimen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De resultaten toonden aan dat de met Quality of Service uitgebreide router weinig verschil gaf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Times New Roman"/>
              </a:rPr>
              <a:t>De stabiliteit van de router bleef hetzelf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Times New Roman"/>
              </a:rPr>
              <a:t>De verschillende prioriteiten veranderden weini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Times New Roman"/>
              </a:rPr>
              <a:t>Het gedrag van de applicaties bleef gelij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7F2C-A33B-4160-B6A9-BFAE792A0A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3366"/>
                </a:solidFill>
                <a:latin typeface="Times New Roman"/>
              </a:rPr>
              <a:t>Conclus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De gemaakte aanpassingen zijn niet efficiënt genoeg om een verschil in gebruik te gev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Applicaties die echt gebruik maken van Quality of Service komen in Borg niet veel vo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243E-3180-4449-B930-EBFE3CB03F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3366"/>
                </a:solidFill>
                <a:latin typeface="Times New Roman"/>
              </a:rPr>
              <a:t>Verdere We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Dieper onderzoek naar de oorzaak van de observat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Andere aanpassingen bedenken en implementer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Quality of Service in Borg op een andere manier bekijk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40A-D31D-49D8-9C7D-3193B36987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3366"/>
                </a:solidFill>
                <a:latin typeface="Times New Roman"/>
              </a:rPr>
              <a:t>Inhoudstaf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Inleid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Quality of Servi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Bor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Quality of Service voor Bor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Experiment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Conclus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3D0-7D9C-4296-A1A2-48122B607E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3366"/>
                </a:solidFill>
                <a:latin typeface="Times New Roman"/>
              </a:rPr>
              <a:t>Inleid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Het doel van deze thesis is om te zoeken welke toegevoegde waarden  Quality of Service kan brengen aan het Mobile Multi Agent Systeem Borg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527-B748-4AD6-84CF-92177B50CA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3366"/>
                </a:solidFill>
                <a:latin typeface="Times New Roman"/>
              </a:rPr>
              <a:t>Quality of 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Quality of Service (QoS) komt voort uit de observatie dat verschillende netwerk applicaties verschillende eisen hebben ten opzichte van het netwer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Voorbeeld: Video over IP applicatie tegenover Chat program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663-83C9-4859-AAD3-585DDFC5F0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3366"/>
                </a:solidFill>
                <a:latin typeface="Times New Roman"/>
              </a:rPr>
              <a:t>Quality of 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Quality of Service staat voor het geven van garanties voor de kwaliteit van een bepaalde dienst aangeboden aan de gebruiker van een netwerk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Quality of Service gaat bepaalde technieken gebruiken om die garanties te lever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EE11-586C-459F-8C35-AA195D089B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3366"/>
                </a:solidFill>
                <a:latin typeface="Times New Roman"/>
              </a:rPr>
              <a:t>Bor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Borg is een Mobile Multi Agent Systee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Het bouwt een abstract netwerk van agents bovenop het fysiek netwer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Borg wordt gebruikt om op een eenvoudige manier gedistribueerde programma’s te mak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9F8-D6D5-4312-8BA1-A3BAAF6C87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3366"/>
                </a:solidFill>
                <a:latin typeface="Times New Roman"/>
              </a:rPr>
              <a:t>Quality of Service voor Bor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Oorspronkelijk ondersteunde Borg geen Q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Prioriteiten werden toegevoegd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Times New Roman"/>
              </a:rPr>
              <a:t>Aangepaste representatie van berichte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Times New Roman"/>
              </a:rPr>
              <a:t>Router queue werd opgesplit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Congestie controle werd toegevoegd op het aantal berichten afkomstig van een ag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93F-952D-4F85-9B89-5608CA58EF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3366"/>
                </a:solidFill>
                <a:latin typeface="Times New Roman"/>
              </a:rPr>
              <a:t>Experimenten: Do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De gewone Borg router vergelijken met de aangepaste versi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De verschillende prioriteiten onderling vergelijk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Het gedrag van de applicaties in de verschillende router versies vergelijk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C20D-E268-4750-8B28-835E86728B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3366"/>
                </a:solidFill>
                <a:latin typeface="Times New Roman"/>
              </a:rPr>
              <a:t>Experimen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Om Quality of Service uit te testen moeten applicaties gemaakt worden die veel netwerk verkeer veroorzake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Times New Roman"/>
              </a:rPr>
              <a:t>Wall Street applicati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Times New Roman"/>
              </a:rPr>
              <a:t>Monitoring applicati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3366"/>
                </a:solidFill>
                <a:latin typeface="Times New Roman"/>
              </a:rPr>
              <a:t>Andere programma’s worden nog gebruikt om hun gedrag te observer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4956-9A5A-4282-B19E-9D6EF4F3D9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0:25:22Z</dcterms:created>
  <dc:creator>cvry6677@WANADOO</dc:creator>
  <dc:description/>
  <dc:language>en-US</dc:language>
  <cp:lastModifiedBy>Cedric Vanrykel</cp:lastModifiedBy>
  <dcterms:modified xsi:type="dcterms:W3CDTF">2002-06-19T10:40:38Z</dcterms:modified>
  <cp:revision>66</cp:revision>
  <dc:subject/>
  <dc:title>Quality of Service voor het afleveren van berichten</dc:title>
</cp:coreProperties>
</file>